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372-E66D-450E-9964-A61530A0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06A-4EA3-4C6E-AA50-0355576E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58C-0B29-4A0E-9028-3087EA0C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195-9265-4262-A9BA-963BD9AA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AAF9-F530-488D-B6F8-45657121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645E-D051-418F-862E-2643F6BA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5E83-85C6-4C42-A7EB-149EDEF6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9E6C-AAB4-4C99-BEC0-CC82D8ED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48D0-B572-4E28-97FA-8F69DF8B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FD96-1DDC-4183-A797-AD3EE5FC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D2EC-B0F6-4426-9A97-45DC58A6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787-9487-4E9C-9AFF-DA628305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C143-8317-4FA7-AA01-DBC09CEE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DE63-7229-4260-A75A-095CC320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0750-050A-4CAB-8AF4-63DF7801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5385-BF9C-4AD9-AD74-83265237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E1B2-4CCE-46A2-B1D1-9062A2AB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A33-4012-4F86-9121-6CC806A8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99F-FD67-4651-8F42-E7E46F28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2AC-AB3B-4E38-A0AD-5616BB00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FEF-AACA-4245-90E7-253455D8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8F8-8B9C-4AB0-9BED-F1061B46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5BE-EDE0-4106-BD32-18AD99DC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E87-9A54-4192-9E4F-0EA3D514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9933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5CD2-E7BA-4278-AB87-B8D182A4B9F1}" type="slidenum">
              <a:rPr b="1" lang="en-US" sz="2600" spc="-1" strike="noStrike">
                <a:solidFill>
                  <a:srgbClr val="9933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9933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B66F-9A80-48F1-BFCD-B670DBCE16A6}" type="slidenum">
              <a:rPr b="1" lang="en-US" sz="2600" spc="-1" strike="noStrike">
                <a:solidFill>
                  <a:srgbClr val="9933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Mi Man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Por  Jasmin Herr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E l Garaj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El Pat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El Jard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pple Chancery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Edwardian Script ITC"/>
              </a:rPr>
              <a:t>La Mansion es muy bonit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Edwardian Script ITC"/>
              </a:rPr>
              <a:t>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Edwardian Script ITC"/>
              </a:rPr>
              <a:t>Mi Cuarto </a:t>
            </a:r>
            <a:r>
              <a:rPr b="1" i="1" lang="en-US" sz="3600" spc="-1" strike="noStrike">
                <a:solidFill>
                  <a:srgbClr val="ffffff"/>
                </a:solidFill>
                <a:latin typeface="Edwardian Script ITC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Edwardian Script ITC"/>
              </a:rPr>
              <a:t>ncredible!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280" y="5791320"/>
          <a:ext cx="212760" cy="3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791320"/>
                    <a:ext cx="21276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219320" y="2057400"/>
            <a:ext cx="6858000" cy="40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Edwardian Script ITC"/>
              </a:rPr>
              <a:t>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Edwardian Script ITC"/>
              </a:rPr>
              <a:t>Mi Cocina Magnific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4864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La Impesionante Sal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2529000"/>
            <a:ext cx="5334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Cuarto de invita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12840" y="2509920"/>
            <a:ext cx="5143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1840" y="8341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El Comed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248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El Bañ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7760" y="449568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Edwardian Script ITC"/>
              </a:rPr>
              <a:t>La Incredible  piscin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25:15Z</dcterms:created>
  <dc:creator>herrerajasm</dc:creator>
  <dc:description/>
  <dc:language>en-US</dc:language>
  <cp:lastModifiedBy>herrerajasm</cp:lastModifiedBy>
  <dcterms:modified xsi:type="dcterms:W3CDTF">2012-03-23T18:08:42Z</dcterms:modified>
  <cp:revision>9</cp:revision>
  <dc:subject/>
  <dc:title>Mi Casa</dc:title>
</cp:coreProperties>
</file>